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CF2-8F32-4BFC-B910-41A8F9BC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EA1-B467-437F-A811-D093A013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0B2-21FB-473D-9C9C-3AB2FA81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43B-5145-49F5-8542-BAF35051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877-234C-47FC-A64B-A55354D5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0C8-F915-478C-877B-2412F309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825-E880-4BC1-9D63-B533DEC1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7B8-3E5A-4D1D-85E6-1FDE32B9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E6B-00A6-4EF7-B1B4-B5B0C470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08F-5ACD-48C4-BB5E-3F7F92CA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015-4612-4551-A97B-88C98BC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36D-6666-4F61-987F-98608B8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BD2C-334B-431D-8816-8F5F29D1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480"/>
            <a:ext cx="6553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246320" cy="182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5029200"/>
            <a:ext cx="5410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d by St. Jud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ed by the Art &amp; Technolog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ham Lincoln became the1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esident of the United States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c &amp; Camer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43000" y="2706840"/>
          <a:ext cx="74674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06840"/>
                    <a:ext cx="74674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led the country during the American Civil W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33412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tee &amp; Matth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2263680"/>
            <a:ext cx="30481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3520" y="609120"/>
            <a:ext cx="53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Score"/>
                <a:ea typeface="Times New Roman"/>
              </a:rPr>
              <a:t>He put an end to evil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81080" y="2057400"/>
          <a:ext cx="411984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4119840" cy="2913120"/>
                  </a:xfrm>
                  <a:prstGeom prst="rect">
                    <a:avLst/>
                  </a:prstGeom>
                  <a:ln w="12708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652640" y="5790240"/>
            <a:ext cx="37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00ff"/>
                </a:solidFill>
                <a:latin typeface="BoScore"/>
                <a:ea typeface="Times New Roman"/>
              </a:rPr>
              <a:t>By: Allison and Kar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1040" y="762120"/>
            <a:ext cx="7981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676520"/>
          <a:ext cx="88693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869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228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Lincoln was the first president to have a beard. Lincoln was fond of pets, and owed horses, cats, dogs, and a tur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 Ben, Evan, and D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257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ryn &amp; Pay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 Lincoln was president for 4 years      1861-1865, before he was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096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6852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768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Lincoln was born on February 12, 1809 in Kentu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0565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19051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 &amp; Lu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467" t="6251" r="7032" b="13540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4290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very and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371600" y="228600"/>
            <a:ext cx="6781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Abe Lincoln had one sister Sarah and a brother Thomas who died as a baby.  He also had a step brother and two step sis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by: Anna &amp; E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049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braham Lincoln left Indiana when he became an adult and made the state of Illinois his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324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y: Hillary and G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9360" y="1066680"/>
            <a:ext cx="915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429000" y="12952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though he had little formal schooling, Abraham Lincoln became a lawye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vieve &amp; Isaa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Abraham Lincoln love to tell stories and jokes to friends and family.</a:t>
            </a:r>
            <a:br>
              <a:rPr sz="4000"/>
            </a:b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ade and Carl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990720"/>
          <a:ext cx="91234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234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wife was Mary Todd Lincoln, who came from a very wealthy famil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6278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: Lizzie and G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4960" y="1214280"/>
            <a:ext cx="7534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17:45Z</dcterms:created>
  <dc:creator>Patrick J. Mooney</dc:creator>
  <dc:description/>
  <dc:language>en-US</dc:language>
  <cp:lastModifiedBy>Patrick J. Mooney</cp:lastModifiedBy>
  <dcterms:modified xsi:type="dcterms:W3CDTF">2010-02-09T19:09:32Z</dcterms:modified>
  <cp:revision>10</cp:revision>
  <dc:subject/>
  <dc:title>Slide 1</dc:title>
</cp:coreProperties>
</file>